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5F65-F385-461B-BD3E-5396438DA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9533-0A21-40F2-8B4D-2E2946DE6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50D6-F712-4700-B96F-296EF4558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F5B3-66F8-4823-B7F6-65957FC04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FE72-B6E6-4A45-A910-2DAC69A17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F52F-33A1-4E7F-87CB-85237CCD8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D572-4F3E-467C-BD57-D5A101F35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A4B9-B1B9-4E90-9333-B0E0C4E87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AD67-659F-4373-820E-5BE4E7A05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63A5-BE93-4659-81A2-BF848E57F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3CFC-AF58-4A5E-B562-B1360F411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358E-B034-49EA-A20A-8B8961788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9167-6178-4D92-935D-D550638F3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0286-B661-4281-A59D-C58DC52AC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AC80-8ECC-4176-99ED-11D1429EF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4238-96D9-48AE-ABED-C3E766DEA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A90A-E756-491D-A581-648AE1A82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105B-6499-437F-B286-284BC8753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16FD-A354-4FDF-AC0D-EC12B8272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F9E2-3847-4E21-A96B-605A36B44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5B58-23FC-40E8-A60B-43AF082AE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4EE0-AC7E-484E-93DC-EE685398F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B458-50D4-4494-B9BD-9ED23CFD0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EA5D-51AC-4F84-9284-17E0F6E1D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D572-6A64-43DA-83E0-DBBD8C806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0BE0-4F6C-479D-9FFB-0DCC37ECE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BE9B-7607-4B0A-902B-AB7107CF8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4781-7925-4E1F-A149-CF7E00295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CAB-B434-4EB4-BE9E-64C404D4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458-C9FB-4195-AF67-9118C382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633-0EC7-4841-84CE-E9A5FEC5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DCC5-AE37-4613-8EAB-A36207CB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3BDD-958A-4480-BF20-EC505A99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9040-C5E1-4565-A031-62D22B0F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E2A8-0F71-4D5D-9039-930743D8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A3C-F1C8-46D9-B569-0F0AA364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640-9DDB-4B28-9876-28B68CF1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155-CFBD-4AE6-9D26-5A496C7D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032-B65E-4AFC-968E-FD9ED8D7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981-D533-48AD-A13E-C8456A88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CC67-39FE-40AE-B53E-6CA9E1570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hyperlink" Target="file:///tmp/home/.config/libreoffice/4/user/gallery/WHOOSH.WAV" TargetMode="Externa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Mitosis Jeopard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5105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are cyclin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04920" y="259092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mily of molecules that control th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027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26"/>
          <p:cNvSpPr/>
          <p:nvPr/>
        </p:nvSpPr>
        <p:spPr>
          <a:xfrm>
            <a:off x="762120" y="51055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CLEAVAGE FUR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25"/>
          <p:cNvSpPr/>
          <p:nvPr/>
        </p:nvSpPr>
        <p:spPr>
          <a:xfrm>
            <a:off x="533520" y="266688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area of the cell membran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at pinches in to separate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ividing cell into 2 new cel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24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027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026"/>
          <p:cNvSpPr/>
          <p:nvPr/>
        </p:nvSpPr>
        <p:spPr>
          <a:xfrm>
            <a:off x="0" y="510552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ENTROSOME 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025"/>
          <p:cNvSpPr/>
          <p:nvPr/>
        </p:nvSpPr>
        <p:spPr>
          <a:xfrm>
            <a:off x="380880" y="259092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ot near the nucle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at holds the centrioles and organizes the mitotic spind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24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04920" y="205740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n cells get too big they can</a:t>
            </a: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 transport enough food, oxygen, &amp; waste across their cell membrane because _____________ increases faster than ____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vis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1066680" y="43434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ll volum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          surface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visi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304920" y="44956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: What is BINARY FISSION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304920" y="182880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ype of cell division used by bacteria to reprodu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visi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685800" y="50292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MITOSIS &amp; cytokine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38088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ype of cell division used by eukaryotes to make more cells that are identical to the starting c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visi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838080" y="41148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: What are chromosomes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609480" y="236232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m of DNA seen in cells that are div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visi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838080" y="4572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are mitochond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304920" y="213372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organelles that provide energ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 cell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838080" y="5486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eavage furro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228600" y="20574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724280" y="243828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inched in place in an animal cell during cytokin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3" descr="cleavage furrow"/>
          <p:cNvPicPr/>
          <p:nvPr/>
        </p:nvPicPr>
        <p:blipFill>
          <a:blip r:embed="rId1"/>
          <a:stretch/>
        </p:blipFill>
        <p:spPr>
          <a:xfrm>
            <a:off x="457200" y="2133720"/>
            <a:ext cx="39625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45720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 centromer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0"/>
          <p:cNvSpPr/>
          <p:nvPr/>
        </p:nvSpPr>
        <p:spPr>
          <a:xfrm>
            <a:off x="3048120" y="27432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holds the 2 chromatid copies toge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0" descr="centromere 2"/>
          <p:cNvPicPr/>
          <p:nvPr/>
        </p:nvPicPr>
        <p:blipFill>
          <a:blip r:embed="rId1"/>
          <a:stretch/>
        </p:blipFill>
        <p:spPr>
          <a:xfrm>
            <a:off x="838080" y="1066680"/>
            <a:ext cx="185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Pha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6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7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8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1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1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2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ctu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3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4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5"/>
          <p:cNvSpPr/>
          <p:nvPr/>
        </p:nvSpPr>
        <p:spPr>
          <a:xfrm>
            <a:off x="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6"/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7"/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8"/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9"/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0"/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1"/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2"/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3"/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4"/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5"/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6"/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7"/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8"/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9"/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0"/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1"/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92"/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3"/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4"/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5"/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6"/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97"/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8"/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9">
            <a:hlinkClick r:id="rId15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38080" y="56386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are centrio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809880" y="2438280"/>
            <a:ext cx="5105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organelle is made of microtubules and helps to move the chromosomes to the po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5" descr="centrioles with arrow"/>
          <p:cNvPicPr/>
          <p:nvPr/>
        </p:nvPicPr>
        <p:blipFill>
          <a:blip r:embed="rId1"/>
          <a:srcRect l="0" t="20832" r="0" b="0"/>
          <a:stretch/>
        </p:blipFill>
        <p:spPr>
          <a:xfrm>
            <a:off x="380880" y="2209680"/>
            <a:ext cx="33656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57200" y="5638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cell pl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8"/>
          <p:cNvSpPr/>
          <p:nvPr/>
        </p:nvSpPr>
        <p:spPr>
          <a:xfrm>
            <a:off x="3886200" y="2590920"/>
            <a:ext cx="525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divider that forms in a plant cell during cytokin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9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36" descr="cell plate arrow"/>
          <p:cNvPicPr/>
          <p:nvPr/>
        </p:nvPicPr>
        <p:blipFill>
          <a:blip r:embed="rId1"/>
          <a:stretch/>
        </p:blipFill>
        <p:spPr>
          <a:xfrm>
            <a:off x="304920" y="1752480"/>
            <a:ext cx="3435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609480" y="5410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are homologous chromosome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895480" y="2286000"/>
            <a:ext cx="571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romosomes that are the same size, same shape, and carry genes for the same tra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6" descr="crossing overrrrrrr"/>
          <p:cNvPicPr/>
          <p:nvPr/>
        </p:nvPicPr>
        <p:blipFill>
          <a:blip r:embed="rId1"/>
          <a:srcRect l="0" t="0" r="55913" b="6676"/>
          <a:stretch/>
        </p:blipFill>
        <p:spPr>
          <a:xfrm>
            <a:off x="533520" y="1828800"/>
            <a:ext cx="1447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Vocab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57200" y="5105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hromatin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609480" y="2438280"/>
            <a:ext cx="807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NA and attached proteins that is spread out in the nucleus of non-dividing ce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193680" y="24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Vocab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762120" y="4724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are centrio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04920" y="213372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ructures at the poles to which the spindle fibers attach and pull the chromosom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Vocab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57200" y="4648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anc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533520" y="23623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ease in which body cells lose their ability to control their cell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Vocab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80880" y="48006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are CHROMATI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33520" y="26668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2 identical arms that make up a chromoso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Vocab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685800" y="40384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: What is a carcino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685800" y="25146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ubstance that causes canc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phase is it?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86200" y="2209680"/>
            <a:ext cx="49528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romosomes are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spread out as chroma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NA is cop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ll is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ing its jo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762120" y="5105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INTERPHAS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1" descr="mitosis11"/>
          <p:cNvPicPr/>
          <p:nvPr/>
        </p:nvPicPr>
        <p:blipFill>
          <a:blip r:embed="rId1"/>
          <a:srcRect l="0" t="50006" r="80558" b="0"/>
          <a:stretch/>
        </p:blipFill>
        <p:spPr>
          <a:xfrm>
            <a:off x="442800" y="1600200"/>
            <a:ext cx="2452680" cy="32367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2"/>
          <p:cNvSpPr/>
          <p:nvPr/>
        </p:nvSpPr>
        <p:spPr>
          <a:xfrm>
            <a:off x="3351960" y="6400080"/>
            <a:ext cx="408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ccff"/>
                </a:solidFill>
                <a:latin typeface="Arial"/>
              </a:rPr>
              <a:t>http://www.life.uiuc.edu/plantbio/102/lectures/08mit&amp;veg10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phase is it?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ANAPHAS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505320" y="228600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omatids separate and move to opposite p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0" descr="mitosis11"/>
          <p:cNvPicPr/>
          <p:nvPr/>
        </p:nvPicPr>
        <p:blipFill>
          <a:blip r:embed="rId1"/>
          <a:srcRect l="59724" t="50006" r="20833" b="0"/>
          <a:stretch/>
        </p:blipFill>
        <p:spPr>
          <a:xfrm>
            <a:off x="685800" y="1600200"/>
            <a:ext cx="2540160" cy="33526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4037760" y="6613560"/>
            <a:ext cx="408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ccff"/>
                </a:solidFill>
                <a:latin typeface="Arial"/>
              </a:rPr>
              <a:t>http://www.life.uiuc.edu/plantbio/102/lectures/08mit&amp;veg10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phase is it?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METAPHAS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505320" y="22096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osomes line up in MIDDLE of the c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0" descr="mitosis11"/>
          <p:cNvPicPr/>
          <p:nvPr/>
        </p:nvPicPr>
        <p:blipFill>
          <a:blip r:embed="rId1"/>
          <a:srcRect l="38891" t="50006" r="40282" b="0"/>
          <a:stretch/>
        </p:blipFill>
        <p:spPr>
          <a:xfrm>
            <a:off x="457200" y="1523880"/>
            <a:ext cx="2844720" cy="35053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1"/>
          <p:cNvSpPr/>
          <p:nvPr/>
        </p:nvSpPr>
        <p:spPr>
          <a:xfrm>
            <a:off x="3732840" y="6324480"/>
            <a:ext cx="408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ccff"/>
                </a:solidFill>
                <a:latin typeface="Arial"/>
              </a:rPr>
              <a:t>http://www.life.uiuc.edu/plantbio/102/lectures/08mit&amp;veg10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phase is it?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62120" y="5562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 PROPHA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352680" y="1981080"/>
            <a:ext cx="57913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atin scrunches into chromosom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membrane/nucleolus disappea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ndle fibers/centrioles ap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0" descr="mitosis11"/>
          <p:cNvPicPr/>
          <p:nvPr/>
        </p:nvPicPr>
        <p:blipFill>
          <a:blip r:embed="rId1"/>
          <a:srcRect l="19449" t="50006" r="59724" b="0"/>
          <a:stretch/>
        </p:blipFill>
        <p:spPr>
          <a:xfrm>
            <a:off x="228600" y="1752480"/>
            <a:ext cx="2813040" cy="3465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1"/>
          <p:cNvSpPr/>
          <p:nvPr/>
        </p:nvSpPr>
        <p:spPr>
          <a:xfrm>
            <a:off x="4190040" y="6400800"/>
            <a:ext cx="408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ccff"/>
                </a:solidFill>
                <a:latin typeface="Arial"/>
              </a:rPr>
              <a:t>http://www.life.uiuc.edu/plantbio/102/lectures/08mit&amp;veg10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phase is it?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762120" y="4648320"/>
            <a:ext cx="7543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: What is G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609480" y="23623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ell makes the organelles and molecules needed for a new c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0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762120" y="5105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HROMOSOM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905120" y="2514600"/>
            <a:ext cx="601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25720" y="2286000"/>
            <a:ext cx="8616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NA and attached proteins t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crunched up in the nucleu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ividing ce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3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a CENTROMER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80880" y="25909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holds the 2 chromatid arms together in a chromos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Dustin Zahm</cp:lastModifiedBy>
  <dcterms:modified xsi:type="dcterms:W3CDTF">2014-02-21T19:48:18Z</dcterms:modified>
  <cp:revision>94</cp:revision>
  <dc:subject/>
  <dc:title>Semester 2</dc:title>
</cp:coreProperties>
</file>